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3.jpeg" ContentType="image/jpeg"/>
  <Override PartName="/ppt/media/image30.jpeg" ContentType="image/jpeg"/>
  <Override PartName="/ppt/media/image27.png" ContentType="image/png"/>
  <Override PartName="/ppt/media/image4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B60-1A13-41EF-8A42-4A308449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80E-4E55-4D4A-A031-9F2B1069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193-A883-4DA3-ACFE-F0223768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7E01-0694-4DA3-97ED-7AEF33F1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3D6-BEA7-4735-A814-5896446E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D42-F731-412E-AB1C-590FDB6A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132-4769-4E1A-8CD9-D946267F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7080-108A-40E1-BF46-5BAA8D15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06B-10E2-44E1-8E4E-0E02A6C6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946-46CB-4260-B537-393047C7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CE6-52CA-481D-AAA2-6BF12A41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D0E1-3C1F-4FDD-B4AD-10195C56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5F07-56A8-4DA1-A031-E2B6F7D9F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image" Target="../media/image11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2184480"/>
            <a:ext cx="9144000" cy="4673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47920" y="380880"/>
            <a:ext cx="62481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еверная войн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(1700-1721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209680" y="1143000"/>
          <a:ext cx="4343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143000"/>
                    <a:ext cx="4343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8000" y="6477120"/>
            <a:ext cx="228600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228600"/>
            <a:ext cx="7162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олтавская би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(27 июня 17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год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4120" y="2057400"/>
            <a:ext cx="3209760" cy="4286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3925800" cy="449568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45174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95280" y="304920"/>
            <a:ext cx="701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Ништадтский мирный догов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133720"/>
            <a:ext cx="7620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шта́дтский мир (30 августа по ст. стилю (10 сентября) 1721, ратифицирован 9 сентября (ст. ст.)) — русско-шведский мирный договор, заключённый в городе Ништадт (ныне Уусикаупунки, Финляндия). Был подписан со стороны России Я. В. Брюсом и А. И. Остерманом, со стороны Швеции — Ю. Лилльенстедтом и О. Стрёмфельдом. Завершил Северную войну и изменил русско-шведскую границу, ранее закреплённую Столбовским мирным договором от 1617 года. Швеция признала присоединение к России Лифляндии, Эстляндии, Ингерманландии (Ижорской земли), части Карелии (т. н. Старой Финляндии) и других территорий. Россия обязалась уплатить Швеции денежную компенсацию и возвратить Финлянд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150"/>
                            </p:stCondLst>
                            <p:childTnLst>
                              <p:par>
                                <p:cTn id="3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52480" y="30492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Итоги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066680"/>
            <a:ext cx="83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ликая Северная война полностью изменила соотношение сил на Бал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сия превратилась в великую державу, доминировавшую в Восточной Европе. По итогам войны были присоединены Ингрия (Ижора), Карелия, Эстляндия, Лифляндия (Ливония) и южная часть Финляндии (до Выборга), основан Санкт-Петербург. Российское влияние прочно утвердилось и в Курлянд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ыла решена ключевая задача царствования Петра I — обеспечение выхода к морю и налаживание морской торговли с Европой. К концу войны Россия обладала современной, первоклассной армией и мощным флотом на Бал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тери от этой войны были очень ве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сторию Финляндии самый тяжёлый период войны с 1714 −1721 вошёл под названием время русского господства. До заключения мира страна подвергалась многочисленным грабежам и насилию со стороны русских войск, что было нормой при ведении войны в XVIII веке. Швеция утратила своё могущество и превратилась во второстепенную державу. Были потеряны не только территории, уступленные России, но и многие владения Швеции на южном берегу Балтийского моря (в руках Швеции остались лишь Висмар и небольшая часть Померан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45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76520" y="30492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Автор презен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3743280" cy="49910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05120" y="647712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нислав Мор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750"/>
                            </p:stCondLst>
                            <p:childTnLst>
                              <p:par>
                                <p:cTn id="3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0"/>
            <a:ext cx="8534160" cy="66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ричины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траны участники, соотношение с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Командующие вой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снование Санкт-Петербур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Основные с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Генеральное с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Мирный 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Итоги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52480" y="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Причины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762120"/>
            <a:ext cx="5029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 1700 году Швеция была господствующей державой на Балтийском море и одной из ведущих европейских держав. Территория страны включала значительную часть побережья Балтики: всё побережье Финского залива, современную Прибалтику, часть южного побережья Балтийского моря. Каждая из стран Северного союза имела свои мотивы для вступления в войну со Швец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России получение выхода к Балтийскому морю было в этот период важнейшей внешнеполитической и экономической задачей. В 1617 году по Столбовскому мирному договору Россия была вынуждена уступить Швеции территорию от Ивангорода до Ладожского озера и, тем самым, полностью лишилась прибалтийского побережья. В ходе войны 1656—1658 годов часть территории в Прибалтике удалось возврат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198960" cy="4419360"/>
          </a:xfrm>
          <a:prstGeom prst="rect">
            <a:avLst/>
          </a:prstGeom>
          <a:ln w="0">
            <a:noFill/>
          </a:ln>
        </p:spPr>
      </p:pic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1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766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Страны участники, соотношение 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1600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765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ве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манская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в 1710—17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рымское ханство (в 1710—17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чь Посполи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в 1705—17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йско Запорож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в 1708—17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80880" cy="24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80880" cy="260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04920" y="2590920"/>
            <a:ext cx="380880" cy="258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380880" cy="260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304920" y="2863800"/>
            <a:ext cx="380880" cy="22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57800" y="1676520"/>
            <a:ext cx="38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арство Рус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йско Запорож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в 1700—1708 и 1709—17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лд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в 1710—17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ечь Посполи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ликобр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ксо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у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876920" y="1676520"/>
            <a:ext cx="47124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876920" y="2514600"/>
            <a:ext cx="409320" cy="279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4876920" y="2057400"/>
            <a:ext cx="380880" cy="260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4876920" y="3048120"/>
            <a:ext cx="45720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4876920" y="3352680"/>
            <a:ext cx="457200" cy="27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4876920" y="3657600"/>
            <a:ext cx="457200" cy="271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4876920" y="3962520"/>
            <a:ext cx="457200" cy="244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4876920" y="4267080"/>
            <a:ext cx="457200" cy="22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502920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веция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7 000—135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манская империя — 100 000—20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51055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ссия — 17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ния — 4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льша и Саксония — 170 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4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45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45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2280" y="1828800"/>
            <a:ext cx="2560680" cy="3346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447920" y="304920"/>
            <a:ext cx="58672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Командующие войс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048120" y="3200400"/>
            <a:ext cx="2781360" cy="327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19920" y="1752480"/>
            <a:ext cx="2793960" cy="3429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5181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ёт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ли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52680" y="266688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. Д. Менш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5181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. М. Апрак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1371600"/>
            <a:ext cx="563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5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9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352680" y="2819520"/>
            <a:ext cx="2971800" cy="3809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705720" y="914400"/>
            <a:ext cx="2286000" cy="3968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04920" y="990720"/>
            <a:ext cx="2666880" cy="4095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52578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оль Карл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2057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дам Людвиг Левенгауп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ван Мазе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снование Санкт-Петер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547640"/>
            <a:ext cx="46483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атой основания Санкт-Петербурга считается 16 (27) мая 1703. Этим днём датируется закладка царём-реформатором Петропавловской крепости — первого здания города — в устье реки Невы на Заячьем острове. Пётр I дал городу название, посвящённое его покровителю на небе — Святому апостолу Петру. По легенде в этот день, после литургии, царь явился с заступом в руках для закладки города, и когда он взялся за него, с высоты спустился орёл и начал кружить над островами. Отойдя в сторону, Пётр I срубил две тонкие берёзки и соединив их верхушки, поставил в выкопанные рабочими ямы. Эти две берёзки должны были обозначать будущие ворота крепости. Орёл, который кружился в небе, опустился и сел на «ворота», после чего перевязав ему ноги, царь посадил его на плечо, обрадованный счастливым предзнамен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89576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2843280" cy="4267080"/>
          </a:xfrm>
          <a:prstGeom prst="rect">
            <a:avLst/>
          </a:prstGeom>
          <a:ln w="0">
            <a:noFill/>
          </a:ln>
        </p:spPr>
      </p:pic>
      <p:sp>
        <p:nvSpPr>
          <p:cNvPr id="99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200"/>
                            </p:stCondLst>
                            <p:childTnLst>
                              <p:par>
                                <p:cTn id="2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19320" y="304920"/>
            <a:ext cx="69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Основные сражения Северн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2057400"/>
            <a:ext cx="861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286000"/>
            <a:ext cx="8686800" cy="33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ноября 1700-Битва при Нарве. Победа шве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 сентября— 11 октября 1702-Осада Нотебурга русскими войс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юнь—июль 1704-Осада и взятие Дерпта русскими войс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 октября 1708-Битва при Лесной. Побе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7 июня 1709 года-Полтавская битва. Победа русской арм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Морские операции русского ф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 июля 1714-Гангутское сражение. Побед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 июля 1720 года-Сражение при Гренгаме. Победа русского ф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1828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Сухопутные с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400"/>
                            </p:stCondLst>
                            <p:childTnLst>
                              <p:par>
                                <p:cTn id="2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58000" y="6477120"/>
            <a:ext cx="228600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7467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800100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1-21T12:09:54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